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9.gif" ContentType="image/gi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DBD-546A-4B26-B575-6DB37139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51B-06EC-49B4-9AE3-83682FF4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576-1E1F-4054-93C8-986461D0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95E-CA44-4300-999D-99B0CEAC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E1C-0910-4321-BB15-A4C94144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461-E234-402F-86C5-AF6A13AD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23E-BD5C-474D-9187-090A2EF3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C9C-102C-441A-B027-D9A05DA9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2AE-0F76-44F9-9E6A-EE969652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42A-8AC3-4288-A850-5EF26C9B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A03-43DD-49D1-9482-46BDBB98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316-BAC5-487F-A27D-1A6307DD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9E1D-34EE-4937-AC12-4712F0FE4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6360" y="2057400"/>
            <a:ext cx="4760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Mystery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ssing Carbun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IV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907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00960" y="24638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040" y="246384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1000" y="24638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24120" y="246384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75880" y="24638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16120" y="24638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28720" y="24638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743200" y="3809880"/>
            <a:ext cx="25034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51800" y="24638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91680" y="24638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52000" y="24638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23400" y="246384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65160" y="24638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42760" y="246384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6160" y="24638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27760" y="246384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86640" y="246384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657600" y="3581280"/>
            <a:ext cx="18874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34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760" y="22352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4160" y="223524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53760" y="223524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15880" y="223524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8400" y="22352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97280" y="22352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59400" y="22352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24400" y="22352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65640" y="223524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64040" y="220968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3000" y="22352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07120" y="22096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73680" y="220968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735400" y="22096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2362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9360" y="223524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04320" y="22352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75520" y="223524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53480" y="220968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49080" y="22352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4800" y="223524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49280" y="22352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85920" y="22352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176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0480" y="22352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10800" y="22352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200" y="223524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0080" y="22352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84560" y="22352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43160" y="22352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4640" y="223524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35080" y="22352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02600" y="22352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1719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93360" y="254016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56720" y="25401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10000" y="25146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89480" y="25401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440" y="254016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6160" y="25401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42960" y="254016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24080" y="3809880"/>
            <a:ext cx="2210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337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70960" y="238752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78080" y="23875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28760" y="23875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58920" y="2387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34080" y="2387520"/>
            <a:ext cx="3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1904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952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8360" y="26161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90400" y="26161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28840" y="26161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17520" y="261612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79360" y="261612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30320" y="26161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76600" y="261612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80840" y="261612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17067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2819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8440" y="238752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27160" y="238752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96760" y="238752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5080" y="238752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49080" y="2387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70320" y="23875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440" y="238752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63680" y="2387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47680" y="238752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81280" y="3505320"/>
            <a:ext cx="16146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971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64760" y="254016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79440" y="254016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38320" y="2540160"/>
            <a:ext cx="4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8520" y="254016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7600" y="254016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61920" y="25401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120" y="254016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50680" y="2540160"/>
            <a:ext cx="3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4038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1:43:39Z</dcterms:created>
  <dc:creator>New User</dc:creator>
  <dc:description/>
  <dc:language>en-US</dc:language>
  <cp:lastModifiedBy>Rutherford County Schools</cp:lastModifiedBy>
  <dcterms:modified xsi:type="dcterms:W3CDTF">2007-04-21T15:17:12Z</dcterms:modified>
  <cp:revision>2</cp:revision>
  <dc:subject/>
  <dc:title>PowerPoint Presentation</dc:title>
</cp:coreProperties>
</file>